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92642"/>
        <c:axId val="39623561"/>
      </c:barChart>
      <c:catAx>
        <c:axId val="33292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23561"/>
        <c:crosses val="autoZero"/>
        <c:auto val="1"/>
        <c:lblAlgn val="ctr"/>
        <c:lblOffset val="100"/>
        <c:noMultiLvlLbl val="0"/>
      </c:catAx>
      <c:valAx>
        <c:axId val="39623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92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907-BEF8-472D-AD07-7D81A859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A52-3859-447D-BEF0-96FCE9FD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E69-A112-49E6-B836-E1350B8F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B6F-5161-4257-A045-5BE66935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7ED-61F1-4E97-A661-6912ABAA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918-894E-48F6-A262-8D9CC625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F27-DD9C-498D-8E04-DD81A189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8B1-855F-465F-85F1-9B436A7F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FCD-A01F-48F4-9578-6BC017E2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CAF-93D8-4C52-AD00-6889217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673-F986-4B54-AC88-BFB9D84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3BD-65EB-44DE-BF60-10251E5C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696CB-132B-494B-A95A-1CCBF6AEF5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