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46598"/>
        <c:axId val="67259227"/>
      </c:barChart>
      <c:catAx>
        <c:axId val="45946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59227"/>
        <c:crosses val="autoZero"/>
        <c:auto val="1"/>
        <c:lblAlgn val="ctr"/>
        <c:lblOffset val="100"/>
        <c:noMultiLvlLbl val="0"/>
      </c:catAx>
      <c:valAx>
        <c:axId val="67259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6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985-A467-4562-AA69-5254F57C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9B0-438E-4658-8F18-5C53F630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6EE-7A3C-4F64-80D5-763A0FE3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30D-5FB8-4B4F-9DAC-A9D8E3AA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BD7-8E4C-4173-847C-572CB86C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3C0-B55D-4223-924A-C69E5A34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F9E-2D69-4BF2-B901-37FE0325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06F-A979-4C28-B1E1-2B4B2E8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9D5-89EE-4C86-A390-17EE741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2F2-169B-4C9D-95EC-9FC87DF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BE1-7D18-4401-A909-F8923225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A4B-EBFB-4D8C-9EE6-90DD1014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FD9B-0AA1-4D9B-BC70-3C3C424F5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