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19065"/>
        <c:axId val="96299193"/>
      </c:barChart>
      <c:catAx>
        <c:axId val="29819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99193"/>
        <c:crosses val="autoZero"/>
        <c:auto val="1"/>
        <c:lblAlgn val="ctr"/>
        <c:lblOffset val="100"/>
        <c:noMultiLvlLbl val="0"/>
      </c:catAx>
      <c:valAx>
        <c:axId val="96299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9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3C8-AE3A-489C-B3D9-8689F65B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F7C-E3E2-488B-B7EC-D86117F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D43-E341-4ABA-8E12-4CEBC533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075-EBC9-4026-91C6-7AD09683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F32-DAD9-4C1D-9C88-B3BDE8A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CEA-43C3-47CB-A131-EE028996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73A-941A-4513-BEC4-1E3E1C54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D22-D7E3-4F96-98A8-9994682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511-BBCB-42D4-B121-2FB7F76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624-3051-4141-840D-6F38590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76C-8C5D-4A26-93C8-A118F0A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43A-C91F-4FB1-B438-168CE71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5094A-E16B-4698-AEFC-8A75D74EF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