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87269"/>
        <c:axId val="87908871"/>
      </c:barChart>
      <c:catAx>
        <c:axId val="89087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08871"/>
        <c:crosses val="autoZero"/>
        <c:auto val="1"/>
        <c:lblAlgn val="ctr"/>
        <c:lblOffset val="100"/>
        <c:noMultiLvlLbl val="0"/>
      </c:catAx>
      <c:valAx>
        <c:axId val="87908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87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A60-9D30-49EF-B07E-1AE0378C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456-3596-4036-B55F-22793A7B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10B-1E81-4FB7-A5A9-3E4671C9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24E-D93D-4430-8A2C-724E7BB5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75A-A8B5-4607-B697-C640577E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7EE-9112-4457-9B71-18F64AC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C56-BEBD-4E60-95D2-6C49F724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5A1-7C4A-4349-B1C9-AB456E54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60E-3692-45C5-A633-EAFFE787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B48-4618-468C-9E0E-79EB9A88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C39-E323-46B3-B6B4-94EA723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7ED-CDEB-410D-8D7B-60BB6BD2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A226D-B7E1-4A67-A692-E6DEB5C63F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