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80630"/>
        <c:axId val="23347355"/>
      </c:barChart>
      <c:catAx>
        <c:axId val="54180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47355"/>
        <c:crosses val="autoZero"/>
        <c:auto val="1"/>
        <c:lblAlgn val="ctr"/>
        <c:lblOffset val="100"/>
        <c:noMultiLvlLbl val="0"/>
      </c:catAx>
      <c:valAx>
        <c:axId val="23347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80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887-17CF-4F59-A5A3-3E6A7196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D13-D40A-4FD0-966C-5197E8A0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130-E6BC-4764-9F3F-B767D5D1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65D-461A-424E-AF8A-DD506B92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B7D-1BFE-4A62-8BD5-AC9BB54A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CD0-9D70-4C7A-92B0-CF55BDCF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36B-AD32-4EB5-B5FC-B7C1E177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AB2-7511-4102-81EC-9B331378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6EC-5494-452C-AED7-2E4F2F98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F47-9A22-4ECC-93E0-BC97E878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933-9174-49DA-A0DD-CCB70BAB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FD5-43DA-476B-B44C-373B705B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20546-B835-4765-9787-B9B6F32E80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