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17925"/>
        <c:axId val="58697059"/>
      </c:barChart>
      <c:catAx>
        <c:axId val="371179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97059"/>
        <c:crosses val="autoZero"/>
        <c:auto val="1"/>
        <c:lblAlgn val="ctr"/>
        <c:lblOffset val="100"/>
        <c:noMultiLvlLbl val="0"/>
      </c:catAx>
      <c:valAx>
        <c:axId val="58697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179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BD6F-B09C-40D7-A342-D9CA534D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92FB-C424-406C-8875-BE3848BA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D2DA-3F1C-4F8A-9F40-050521DA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69A1-9DDC-410F-8F19-F6BF9E25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9995-23B8-4695-AF7A-424C6D18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1BD-CDBE-4375-BA94-4CF7A285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4086-08C0-4ED1-8542-7ECD4FE4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0EF-E4FB-41F4-91B7-8FCB33EE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D1C1-909F-4C9D-9BA3-AF8DA8A9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E2BD-B87E-4560-A195-085335BB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CA2A-78A0-488A-A46B-C55D7487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F1E-5EC1-48DB-9EC7-EAFF52DA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616BF-6CEE-46FD-9CFB-40CA18B03A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