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53601"/>
        <c:axId val="23013888"/>
      </c:barChart>
      <c:catAx>
        <c:axId val="76253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13888"/>
        <c:crosses val="autoZero"/>
        <c:auto val="1"/>
        <c:lblAlgn val="ctr"/>
        <c:lblOffset val="100"/>
        <c:noMultiLvlLbl val="0"/>
      </c:catAx>
      <c:valAx>
        <c:axId val="23013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53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E11-ECD7-49C4-A27B-B5719D49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771-518D-40D8-B5C7-40F68FFE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BCF-AEF8-465D-BD93-EC26DF52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415-EC02-43EF-8648-AA75F1E6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BC3-09C1-47A6-9BC1-816483CE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35B-D249-4A5E-B13A-66DEB1B5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C2A-DC1E-438B-8BE2-E0C9BC63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F6E-459B-4D1D-9EB5-69D37CD4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47C-9254-49CB-AC97-46D84A5E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903-1EE2-47CA-91DE-E8D11F6B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B0B-A90A-4D0D-A2EE-F8AF53C4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8E2-9303-42B6-9EA7-11AEC551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4B17C-C830-4295-BFCC-8815FD3847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