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982559"/>
        <c:axId val="66941154"/>
      </c:barChart>
      <c:catAx>
        <c:axId val="539825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941154"/>
        <c:crosses val="autoZero"/>
        <c:auto val="1"/>
        <c:lblAlgn val="ctr"/>
        <c:lblOffset val="100"/>
        <c:noMultiLvlLbl val="0"/>
      </c:catAx>
      <c:valAx>
        <c:axId val="669411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9825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9906-7623-4997-92FE-BBAD46295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2912-E74F-4545-9886-A502522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FD0C-C366-46E2-8A07-E62D08FAE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4B3F-DCED-486F-9189-F677F554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424A8-67C4-43D8-AC9A-ADA4E23D0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0A80-DF39-469C-A153-A9E45D8D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AA0-FF74-4D1D-95B6-16805455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864-1C85-4176-8F8F-01966F2A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E8A9-C25A-437E-BD81-FA69C221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37A1-3C10-469F-84D6-BE40F51F9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5BEF-1EE6-4DFD-8C08-5C0B6393B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E81-E248-4C6B-92C9-52A6AB3D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4256A6-DE66-43CB-BE63-F350747D08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