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44295"/>
        <c:axId val="39297969"/>
      </c:barChart>
      <c:catAx>
        <c:axId val="92344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97969"/>
        <c:crosses val="autoZero"/>
        <c:auto val="1"/>
        <c:lblAlgn val="ctr"/>
        <c:lblOffset val="100"/>
        <c:noMultiLvlLbl val="0"/>
      </c:catAx>
      <c:valAx>
        <c:axId val="39297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44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F13-3E68-43E3-BA30-1D1548CB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963-0BC9-42DC-A2B8-47818784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1FF-D833-4214-8B27-AF443D93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279-3F98-4248-B41B-952831F2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D27-1537-4F42-8117-F79E9F15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CBA-C976-4D7D-B3CF-DC8E5A37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B84-0AF1-4D24-9D09-005577DF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44D-83F1-48D4-A202-C082BE81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BCE-EB82-488D-B2BA-C40BE85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16B-659B-4796-94B9-F2205DB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6B5-A606-4C3A-A4F7-92939ECE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88C-6191-41A5-8558-349CBE45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FA59F-18E3-403A-A92E-FA51E3FE92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