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30582"/>
        <c:axId val="40340004"/>
      </c:barChart>
      <c:catAx>
        <c:axId val="19830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40004"/>
        <c:crosses val="autoZero"/>
        <c:auto val="1"/>
        <c:lblAlgn val="ctr"/>
        <c:lblOffset val="100"/>
        <c:noMultiLvlLbl val="0"/>
      </c:catAx>
      <c:valAx>
        <c:axId val="40340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30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B37-F167-48F5-BB11-57E6DFC9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6D6-9E30-4A88-8A4F-BF435580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FA7-84EB-47B9-8BFA-A688D492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50F-9142-4297-941D-0431B6AB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7DA-D8D9-4EC6-8552-0D7C71EE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8E9-FF94-4436-863C-FFB8B366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27A-5162-4A82-8715-A684BC89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4A6-5528-4E45-8E09-46BE2E23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3FF-7479-40F8-8969-B9AE261A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B3B-1289-4C7E-B395-324EDE1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577-3413-4A9F-9457-3895204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781-6668-469C-8EF6-EF76F1E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F0CC9-67B1-4411-A0A2-5A0823C220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