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98775"/>
        <c:axId val="31345664"/>
      </c:barChart>
      <c:catAx>
        <c:axId val="18198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5664"/>
        <c:crosses val="autoZero"/>
        <c:auto val="1"/>
        <c:lblAlgn val="ctr"/>
        <c:lblOffset val="100"/>
        <c:noMultiLvlLbl val="0"/>
      </c:catAx>
      <c:valAx>
        <c:axId val="31345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98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75C-02BD-4A33-9B3A-D9478CE6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756-799E-47A1-9869-E7E18BC5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559-9F11-4D24-BD33-201661D4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89B-4288-4F78-9768-C1AEB030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F72-6A83-4769-8D88-5EDA4480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A24-C793-44A0-A02F-54667723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B3E-8E26-4290-803E-4F32DF86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1E1-0C52-4802-BDA8-1C474742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134-70D6-4637-9DC2-5690BEA3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89A-FCCB-480E-B4C1-09365EFE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A38-692D-4580-A3EA-858096E3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756-25D2-4CB9-B6B6-A85BC204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DAE76-AE1B-4C3B-B961-826F06B99A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