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9179"/>
        <c:axId val="49012227"/>
      </c:barChart>
      <c:catAx>
        <c:axId val="4009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12227"/>
        <c:crosses val="autoZero"/>
        <c:auto val="1"/>
        <c:lblAlgn val="ctr"/>
        <c:lblOffset val="100"/>
        <c:noMultiLvlLbl val="0"/>
      </c:catAx>
      <c:valAx>
        <c:axId val="49012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9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604-AD58-466C-9A08-FB096F1B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555D-54A7-41DC-9ED1-0A13B4CB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4AB-4A7B-4135-B671-161D63D0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A86-68D6-4BF4-8ED9-256AF999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FCC-B3B9-47F1-9AD3-146EBA2C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C4D-96ED-49F1-882A-43EC789B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759-6689-4AAA-810A-DBA02268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029-B49D-462C-8D46-7B83EC4E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406-CC1C-475B-9B46-825521DD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4F6-5307-4B96-813F-023CBC41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4470-A665-4AF1-988F-8DFA5161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5C5-6C1F-4D49-983C-1AD14DE3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03224-3592-4217-ABF5-358CF88292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