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9381383"/>
        <c:axId val="84784305"/>
      </c:barChart>
      <c:catAx>
        <c:axId val="2938138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784305"/>
        <c:crosses val="autoZero"/>
        <c:auto val="1"/>
        <c:lblAlgn val="ctr"/>
        <c:lblOffset val="100"/>
        <c:noMultiLvlLbl val="0"/>
      </c:catAx>
      <c:valAx>
        <c:axId val="8478430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38138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0EF48-51BC-4AA7-8BD6-691D67297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4183C-6AAE-4DCF-A158-257541235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06076-2ADE-4D14-8DF7-050E29AD2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7D729-0BDE-45F5-836E-2DCC905C7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4DD33-4EA3-434E-92E9-7487FB203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97BBE-045A-4FF8-A083-D0182441D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41F3D-133D-4905-9DA3-6811C164D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1BCD5-10C6-47BA-84EA-6C346E907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25E0E-C187-4377-A7A5-411DBE773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35694-C886-45B8-B733-6AEA11B7C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5F0F8-437F-4EBE-8296-DDD91C978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F76BB-0491-4612-A841-9F86C8E35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8D64F5-B715-4BA7-ADEB-78068235BBE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