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75359"/>
        <c:axId val="67428668"/>
      </c:barChart>
      <c:catAx>
        <c:axId val="61775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28668"/>
        <c:crosses val="autoZero"/>
        <c:auto val="1"/>
        <c:lblAlgn val="ctr"/>
        <c:lblOffset val="100"/>
        <c:noMultiLvlLbl val="0"/>
      </c:catAx>
      <c:valAx>
        <c:axId val="67428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75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7A0-0522-48A0-8090-37D3705F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029-8DBD-4562-94AC-D6364076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252-082A-4AC2-A42C-F21375F4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B97-2A3E-48C5-873B-992174BF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B42-3811-4E69-B36D-0E2FDF89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564-7943-4E2A-AFE6-FAACA45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6F9-FF7C-4356-B2B2-FDA3209B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FD1-AA3E-4E32-B9E8-ADFF6D2A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16C-5ED2-4AD5-B914-666BC933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231-D1D5-4713-B6E7-E5DCA49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034-7DA0-4315-ABBA-45EBEB7D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47E-EED7-45A4-985D-EBF5D0A3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6D54E-022F-47E2-825F-81E5CECE58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