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827353"/>
        <c:axId val="49534550"/>
      </c:barChart>
      <c:catAx>
        <c:axId val="828273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534550"/>
        <c:crosses val="autoZero"/>
        <c:auto val="1"/>
        <c:lblAlgn val="ctr"/>
        <c:lblOffset val="100"/>
        <c:noMultiLvlLbl val="0"/>
      </c:catAx>
      <c:valAx>
        <c:axId val="495345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8273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F419-BB51-4164-850E-CD4FBFF56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1AAB-0115-4F3A-B06D-7A8CF7A3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5724-82F0-47BA-902F-084F773D8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A64F-C35F-4884-83C9-F15336F50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9528-0A56-459F-B51E-DE193C4B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0BB2-C9A1-49AB-9EE3-D0C68765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6AC9-9385-4147-B41A-8CE4381F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CEB4-3C71-47D4-B41A-8AC30447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81EA-99C2-416E-9EC6-E24D5127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62DA-D253-4787-AE40-5CCC55CB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0B14-BD47-41DF-8833-9A996AA8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C84F-2655-44B1-A979-A0D894C2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D72CD3-860D-44C9-B671-AA0FBBD383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