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13633"/>
        <c:axId val="46941992"/>
      </c:barChart>
      <c:catAx>
        <c:axId val="41913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1992"/>
        <c:crosses val="autoZero"/>
        <c:auto val="1"/>
        <c:lblAlgn val="ctr"/>
        <c:lblOffset val="100"/>
        <c:noMultiLvlLbl val="0"/>
      </c:catAx>
      <c:valAx>
        <c:axId val="46941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3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75D-36A9-4B85-8B63-076982A9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8B6-5A57-49D5-BE48-91388469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D4C-6A08-4A4D-A422-525D774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089-96F6-4262-8BEE-4B7D35D9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684-1257-4B22-96DD-4596441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42B-BB5D-4621-9B82-B9E153D3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EEF-97E0-454C-A2B8-4C242284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D14-7863-4720-8149-5831B87E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39F-FF3B-4793-BDCD-6C851AF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E32-A4A6-46D4-A8BD-D191F605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BE5-15B7-493E-B056-54B90A6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C91-7E14-4C78-9AAB-C0B8469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CF7ED-E7E5-4408-9A90-113AF4E74E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