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13663"/>
        <c:axId val="32031929"/>
      </c:barChart>
      <c:catAx>
        <c:axId val="955136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31929"/>
        <c:crosses val="autoZero"/>
        <c:auto val="1"/>
        <c:lblAlgn val="ctr"/>
        <c:lblOffset val="100"/>
        <c:noMultiLvlLbl val="0"/>
      </c:catAx>
      <c:valAx>
        <c:axId val="320319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136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3483-E418-49BF-ADF5-1FD7E3C2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8F2-091D-4339-8F41-DEDFC239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E160-B663-4CE4-8C09-C7155CFCE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554C-7D06-41E9-89B5-F0B573CF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C921-5207-40E3-9542-8800FDC76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72D-845E-46BB-B0E1-C70EC54B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C68-651D-49D7-B634-653ED94C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FEF-2584-46C5-9183-214D82C4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E23A-A835-4E17-994B-EDE8F341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2617-4455-447B-943F-A9674205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90F5-02E7-4210-87DA-5A6E0822A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55D-134F-4D78-8635-18260C2C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4915A-65E5-4C0D-901E-EEB5305CC7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