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52731"/>
        <c:axId val="36116099"/>
      </c:barChart>
      <c:catAx>
        <c:axId val="19152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6099"/>
        <c:crosses val="autoZero"/>
        <c:auto val="1"/>
        <c:lblAlgn val="ctr"/>
        <c:lblOffset val="100"/>
        <c:noMultiLvlLbl val="0"/>
      </c:catAx>
      <c:valAx>
        <c:axId val="36116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2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DFF-AF71-4D8B-8A4D-9E6FE6C1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250-855E-4503-A442-ADEF7CA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553-A923-4093-82D0-092E6746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E12-0AE6-4A0A-9E0A-933F0785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14A-8EFF-40A0-B05A-431E0FE6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69A-06FF-49D2-9B04-109CFEE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663-ADFA-495D-9092-1C625753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57A-860D-4A03-92CB-D554674E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3F3-C090-4C2A-8077-1896490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9D3-A002-47FC-859B-EE91A5D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63D-207E-4C85-A768-669A058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AF3-FA63-4EB1-BB3C-17A448CE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5FDE-89C6-48CC-A2D2-8E47D8707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