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66838"/>
        <c:axId val="80097943"/>
      </c:barChart>
      <c:catAx>
        <c:axId val="19866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97943"/>
        <c:crosses val="autoZero"/>
        <c:auto val="1"/>
        <c:lblAlgn val="ctr"/>
        <c:lblOffset val="100"/>
        <c:noMultiLvlLbl val="0"/>
      </c:catAx>
      <c:valAx>
        <c:axId val="80097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66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180-74D2-412A-8F5E-8159D4CE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2FE-2860-4035-8631-F83A9B0D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819-2BFB-4C84-9828-8238C30D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E57-3E31-4269-8720-4753553F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639-E425-451C-96C5-F382CACB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576-C9F0-4B8C-A2B4-8666EBC5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0FE-73A5-4715-829A-4578FED1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9D0-A7A0-4EBF-A391-EF8B95B8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A4F-C4FF-484E-880E-F51749C3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D80-236C-4EBF-8959-967CFE1B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F45-21D1-4E5C-A245-63138B25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5AB-CAA7-48F7-81B3-B39787E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8E6B3-F768-4204-8EEB-4F36C85587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