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03573"/>
        <c:axId val="82139371"/>
      </c:barChart>
      <c:catAx>
        <c:axId val="32903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39371"/>
        <c:crosses val="autoZero"/>
        <c:auto val="1"/>
        <c:lblAlgn val="ctr"/>
        <c:lblOffset val="100"/>
        <c:noMultiLvlLbl val="0"/>
      </c:catAx>
      <c:valAx>
        <c:axId val="82139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03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A5C-BB51-4F7F-9FC9-324E3A6B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D17-7B53-40B6-BFF7-F166A369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1C7-A45A-4373-8A33-F6C62170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3AE-354F-46FC-876B-3062CA03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062-087C-4742-8A6F-41EFD25D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AF5-2266-4539-83A2-313E401C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C95-3886-4690-9709-D7993C76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B65-F76F-42CD-9B42-8CD8E3DF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26A-AEE9-4C5E-BF20-C0B51CF5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AD8-A704-4E8A-B76D-8213AD74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DFC-E385-4DBC-96E7-469C550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A4A-C1F1-49EC-A6A6-F030F805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21121-806F-4B74-BCB2-5161A4CA07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