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6267"/>
        <c:axId val="99844131"/>
      </c:barChart>
      <c:catAx>
        <c:axId val="9036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44131"/>
        <c:crosses val="autoZero"/>
        <c:auto val="1"/>
        <c:lblAlgn val="ctr"/>
        <c:lblOffset val="100"/>
        <c:noMultiLvlLbl val="0"/>
      </c:catAx>
      <c:valAx>
        <c:axId val="99844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6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42F-6812-470F-82C0-AE0B0C60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DA2-B72A-4CAD-9F91-6FFE23A3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826-D47D-4D40-B796-D56F8BA4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95F-951A-4D01-8F43-272DA5AB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1E5-18A0-49F2-98A1-33F2A182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F85-0F79-44EA-A57E-E726F65B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C99-2232-438B-9127-94FB7670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DAC-7930-482A-B11C-C970F556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1D5-8DD9-4FDF-9ADF-8699E23E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218-A54C-4C89-A033-DC8AA975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772-9EFE-4BEE-8CCC-02ADA45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A40-5789-4EC4-9F3E-51BBDF2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74C43-B7B2-420C-A93F-1FB26DB5F4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