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75317"/>
        <c:axId val="1045590"/>
      </c:barChart>
      <c:catAx>
        <c:axId val="71975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5590"/>
        <c:crosses val="autoZero"/>
        <c:auto val="1"/>
        <c:lblAlgn val="ctr"/>
        <c:lblOffset val="100"/>
        <c:noMultiLvlLbl val="0"/>
      </c:catAx>
      <c:valAx>
        <c:axId val="1045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5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FDA-966C-49AC-B9C2-6843C884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BBD-8462-4FF1-9F42-B1B1DDC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F86-B50D-4EBA-97B0-B5A5151A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8D3-DA7E-47FA-A90F-B037B2E2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41F3-EBBB-48F9-91C5-D88C45E0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E47-CE2F-40B2-B5F0-D8E1968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364-772E-417A-896C-105F909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AC3-6C31-4C6E-931C-0A03EC5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6DD-8233-4AD3-B50E-4E935AB5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840-4BEB-4466-928A-FF78461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916-22EF-4BB7-98F5-DD0F03D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16E-0F79-4BB2-8250-6026082D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33FC-22C3-4E53-885D-0D0F109D2F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