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62839"/>
        <c:axId val="15135802"/>
      </c:barChart>
      <c:catAx>
        <c:axId val="55262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35802"/>
        <c:crosses val="autoZero"/>
        <c:auto val="1"/>
        <c:lblAlgn val="ctr"/>
        <c:lblOffset val="100"/>
        <c:noMultiLvlLbl val="0"/>
      </c:catAx>
      <c:valAx>
        <c:axId val="15135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62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75B-EB2A-4A21-B84B-E890895B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943-ACB0-4DCC-8EFA-48C3ACEA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E12-C2F8-4535-9E21-46441173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305-00FB-4C63-9F91-FC2AC2D7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ECF-F939-4B94-8115-255BC18D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46A-5E9C-48EA-941B-1C3F8FFB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EFF-79BC-4820-BBDC-A2147B4F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5CB-E986-461C-900B-3E8B6B03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F1B-F51C-42D0-B17C-8E81680A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F97-6E10-4CD8-B3CA-F349D4F2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23E-2CE9-413D-96EC-12D76341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B62-4C36-4242-8297-D07CDEEE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DB887-CE24-4469-AF06-0198DEB400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