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69445"/>
        <c:axId val="90287930"/>
      </c:barChart>
      <c:catAx>
        <c:axId val="41269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87930"/>
        <c:crosses val="autoZero"/>
        <c:auto val="1"/>
        <c:lblAlgn val="ctr"/>
        <c:lblOffset val="100"/>
        <c:noMultiLvlLbl val="0"/>
      </c:catAx>
      <c:valAx>
        <c:axId val="90287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69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1DE-72E8-4A44-9A56-D1A62CF3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725-4415-42B6-AE35-593A66CE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5F3-31D6-46BF-85BF-43B7E32E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199-FB4B-4DD8-A831-E688B890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1E6-8C21-4300-B1C7-507CCA3E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964-5033-45B9-AB80-AA874D07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303-089B-41ED-92BC-394C2DE2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2CB-4F6F-4A2E-8317-5BD1036B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C54-AD71-499C-B60D-05374E8D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B62-6C19-49AD-BD3D-6E07D51D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847-523C-4256-A219-245BFE7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EC6-DDA2-4B1B-9B73-FFCB0A6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63C82-C41C-4A47-9B90-CF14CF960B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